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D740-8244-4347-849C-5F2B18F5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F5B-BC6A-49CB-9017-F423B0569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DA0-3F44-4CE6-9D09-5E350D9B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2457-DCB9-445C-9ED8-809C5D7C4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984F-E44F-4739-A5CE-CD9ED7FA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9AB-63DD-4417-A30D-E57C5520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F20-CA12-407F-8E0F-E6FBC587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069-33AE-4043-B81E-6A3A7076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0CD-5162-41F3-BCBA-238CC815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262A-002C-49FB-B7E5-331106A652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E4F-02A7-4F1A-9403-1B9CEAF6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760-2327-47FC-B2DB-9C7F4D99D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5893-32CC-4E05-BA7B-2EFCFBACD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93DE-32B3-41A9-BE89-5C767E73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057-7C3B-43D6-954B-ADB6F2CB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B3CB-B1EC-4E9F-88EB-103EDDAF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95F5-2B5E-4298-952A-433DC0F4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BD9-515B-48B7-AE6C-46418405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0F0-458B-4540-80B7-52DBEA7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5A2B0-4E9F-43E6-967E-10B7EC6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7410B-7194-4520-A4ED-B37BAFB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64192-E2AF-466E-9BFA-0C3B627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9A62-EFC6-4A37-A990-0BD755B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03729-A645-44EF-A5E6-ED692AF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770F7-6D1E-493D-A1CC-4C0FAD9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C48DA-CD63-4D24-AC5D-3C94A89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29C89-B51C-4947-BDD0-9E69DB0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21C04-1011-4946-825E-DAD7F8D3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4FB-BD79-4B3F-867A-0BD086CE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E7D-2F65-44E3-97B8-B091CF53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1B1-9853-4873-BA94-E7B4BE0F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B0C7-4872-4187-ADC9-49CF8BED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95A-2931-4C3B-B8B6-320F2E7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FFDE-99BA-4355-A87C-700F863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349-E722-4E69-92D7-D9ED445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AE92-65F1-4D77-9BFD-BED02D2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772A-F569-4516-93A4-E4C017A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FFB-F0CB-4904-81B9-AC802CA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2771-E967-49EE-BBDF-AA0DCED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8D3-E271-4522-860E-768A912A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A5E8-45B8-4461-BB3A-A79260C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0F00-7086-4198-B4B9-FCEC52C1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AC71-488C-4F24-834F-FC298990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882EB-F8E0-40C0-B28F-AE9AD9E8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5715-E084-441F-BA86-6C76FA7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7FE5-4E3E-4CF4-917E-78361CA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9948-D70F-4C04-B8CC-74D4CEE9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424C-2794-4479-BB97-4950EB5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106-BB64-41A4-B94D-725B45D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1DB5-F972-479E-943B-54C18E83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7CB7-3055-4415-A86E-FE93B3B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FC4E-3B90-4E39-9CA7-99DB81A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D362-F2A0-4592-88C3-491FE3A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63B9-7553-40F7-A8E0-0BCF64B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D5E1-1F90-4075-8967-76D83C49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67A6-1D14-44D7-9A0F-0AB61336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D156-DE71-4A68-B1B4-FAEB917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83A1-EC83-496E-BB35-ABEF010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1507-6693-405A-A82B-F5E3E3C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7CE-7BBB-41AC-BAA9-BDD9E036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BCCD-35CE-4903-8673-BD9C0417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FA68-519B-4E3A-A329-08C9A67B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D39B-2A22-46A7-9C84-176CCF0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5290-468D-4170-9716-D9ECAF8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BD16-B269-442F-B664-7275EDE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97D9-552A-4EA2-A032-F79AA14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09A4-19D3-4CF7-875C-7D5C69D0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6BC3-DFFF-4340-86F6-2D690A9E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E07F-1F94-4091-A609-349026C2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064C-3EF4-4771-B067-9D515C1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0D6-CE69-44E7-BDDC-F346474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E410-A5FB-4285-B489-3BAA0E8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3408-314D-4762-8F3F-58B54D3B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C1BD-48EC-4E4E-B99F-6AC27DD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8A93-BF40-4292-9826-663F1A25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2F0E-4495-4B04-A425-EE7DA1D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833C8-D8CF-4540-B132-DA3B355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80EE-23EF-4663-87CF-BE218C4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BBE4-BD93-4D42-9579-4732C7B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C350-49DE-43DE-B766-99D4EC57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59A5-DB49-4EFD-ADE4-1690E805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B95-6165-4478-B36B-2780606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6C85F-3B07-4F1E-9F9F-D4DFC313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E84E-E2B6-4370-829D-BE16ABD9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C6CE-CEFE-4628-81CE-7F44D03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20A8-C67E-4CCB-94F0-BD68637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99D4-30CF-4208-B6F3-CAC03549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3679-4B09-4948-AF69-9CD75B2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BB1E-B22A-49BB-A5F8-D3B56B4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82728-1C38-4AA2-A372-6581982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A67D3-1BF7-4360-9717-71829F6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B519-4377-4DD0-A0E3-BA3C2EC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B8C-1673-46F3-934D-99301D4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C177-4F1E-4D3E-9921-660F0871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E05FD-596B-4EED-A076-A195D5DE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8D1B-58FD-4395-8F18-FEBB9E9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1C90-9E30-468A-BBA5-EE7D5B67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9098-99F5-4613-A0BF-8376DB62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A53E-AC65-4157-93A0-4FADB0F3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8FBF-D105-4DAF-B6A8-6069ED1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45D4-8DF5-476A-8122-1F7BA01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0AE7-E16E-4FB2-84F5-FBE8A5C8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5368-3E14-4B48-8A89-E91FB70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F9E-7D84-4DC6-A36A-8864A18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1C1F-A079-48D2-9AD5-F74B09C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7F76-DAB0-45E4-895B-8AD2B556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46F9-5E20-4CF4-B5E0-E46FB32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F66DE-3416-4BE1-81DD-B699CBB8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95EE7-DEB5-4B09-8232-7AD412F5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D71D-55B7-4982-9E12-D33104C6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6443-95F7-4D4C-9611-01D0901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200E9-456F-4BC6-B9B0-7B8D1C54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3463-E936-4A51-BC3D-D294C65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BA6E-AE66-4838-9851-81C596C3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570-8727-4409-8360-882563D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FBB4-04E0-42D2-90DF-0B0A626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C25D-C69A-446B-ACF8-ADE1184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A84D4-313A-42C3-9B82-0B1B0D6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07835-E4BF-4017-88BC-3BCC4F5B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33C1-234F-4D78-A301-2A47C6E6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30D07-345F-49EF-A069-B8B0ED51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853E-1C2C-4F57-96A3-4E5597D1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0C710-0F58-4D04-AF07-C8EABAF1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2341-5AFF-4B9A-8AE7-194FAD6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81052-7278-4B25-B9E4-B706200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FE13-AA0E-4C2C-8F22-47409CA1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FB2-903E-402E-BA6B-E5266A7B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AB6-2E46-4E32-B3B8-170ABA20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CAF-0B9F-44A4-80B2-F13DA75A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65D9-781A-4A84-953F-251E2403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166F-3ED7-41D1-86F1-45D3C0C3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2B8-9BF9-4463-A9BE-5762D6CEB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54E-1F21-4B79-8BB5-90EF27086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5AEA-087C-4111-98D7-A8E8D0E5C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D:\UNEEKPROJECTS\UNEEK PROJECT LOGO'S\UneekP_02.gif"/>
          <p:cNvPicPr/>
          <p:nvPr/>
        </p:nvPicPr>
        <p:blipFill>
          <a:blip r:embed="rId1"/>
          <a:stretch/>
        </p:blipFill>
        <p:spPr>
          <a:xfrm>
            <a:off x="0" y="1295280"/>
            <a:ext cx="9245520" cy="3962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-123840" y="5715000"/>
            <a:ext cx="96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www.uneekprojects.co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4"/>
          <p:cNvSpPr/>
          <p:nvPr/>
        </p:nvSpPr>
        <p:spPr>
          <a:xfrm>
            <a:off x="380880" y="228600"/>
            <a:ext cx="8458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Create marketing plan and promotion strate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eview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Identify target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BRAND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ollateral 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ales, marketing &amp; promotional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380880" y="0"/>
            <a:ext cx="8458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affing / Assign Team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Identify all areas needing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valuate staff, team and volunteer strengt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ssign roles according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4"/>
          <p:cNvSpPr/>
          <p:nvPr/>
        </p:nvSpPr>
        <p:spPr>
          <a:xfrm>
            <a:off x="380880" y="228600"/>
            <a:ext cx="8458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ales &amp; Mark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re-regi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pons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Vend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romote event to public (spect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erchandi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4"/>
          <p:cNvSpPr/>
          <p:nvPr/>
        </p:nvSpPr>
        <p:spPr>
          <a:xfrm>
            <a:off x="380880" y="228600"/>
            <a:ext cx="8458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Event Planning &amp; Log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isk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erm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eserving 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estroo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ar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oncession locations et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4"/>
          <p:cNvSpPr/>
          <p:nvPr/>
        </p:nvSpPr>
        <p:spPr>
          <a:xfrm>
            <a:off x="304920" y="2286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Day of Event / Event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vent day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re-game/event “run through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ommunication is ke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mergency response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4"/>
          <p:cNvSpPr/>
          <p:nvPr/>
        </p:nvSpPr>
        <p:spPr>
          <a:xfrm>
            <a:off x="380880" y="22096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HAVE FUN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D:\UNEEKPROJECTS\UNEEK PROJECT LOGO'S\UneekP_02.gif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-123840" y="5715000"/>
            <a:ext cx="96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www.uneekprojects.co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53352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VENT</a:t>
            </a: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MANAGE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5" descr="D:\UNEEKPROJECTS\UNEEK PROJECT LOGO'S\UneekP_02.gif"/>
          <p:cNvPicPr/>
          <p:nvPr/>
        </p:nvPicPr>
        <p:blipFill>
          <a:blip r:embed="rId1"/>
          <a:stretch/>
        </p:blipFill>
        <p:spPr>
          <a:xfrm>
            <a:off x="1905120" y="3809880"/>
            <a:ext cx="5435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2"/>
          <p:cNvSpPr/>
          <p:nvPr/>
        </p:nvSpPr>
        <p:spPr>
          <a:xfrm>
            <a:off x="533520" y="609480"/>
            <a:ext cx="8153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EVENT MANAGE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Planning, Coordinating &amp; Management of a Successful Ev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Ten Steps for Succes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380880" y="228600"/>
            <a:ext cx="8458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EVENT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ick/Identify Ev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stablish event goals and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Identify event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Determine location/ven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reate marketing plan and promotion strate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2"/>
          <p:cNvSpPr/>
          <p:nvPr/>
        </p:nvSpPr>
        <p:spPr>
          <a:xfrm>
            <a:off x="380880" y="22860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EVENT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6) Staffing / Assign team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7) Sales &amp; mark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8) Event planning &amp; log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9) Day of Event / Event Mg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10) Have Fu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2"/>
          <p:cNvSpPr/>
          <p:nvPr/>
        </p:nvSpPr>
        <p:spPr>
          <a:xfrm>
            <a:off x="380880" y="22860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elect / Identify Ev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3 v 3 Street Soccer T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1" descr="logo-V8.png"/>
          <p:cNvPicPr/>
          <p:nvPr/>
        </p:nvPicPr>
        <p:blipFill>
          <a:blip r:embed="rId1"/>
          <a:stretch/>
        </p:blipFill>
        <p:spPr>
          <a:xfrm>
            <a:off x="3124080" y="2724120"/>
            <a:ext cx="3200400" cy="4133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2"/>
          <p:cNvSpPr/>
          <p:nvPr/>
        </p:nvSpPr>
        <p:spPr>
          <a:xfrm>
            <a:off x="380880" y="228600"/>
            <a:ext cx="8458200" cy="89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Event Goals /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Generate Revenue / Turn Profit (minimize expens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Offer event that appeals to participants, spectators and spons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Create exciting event (brand) with long term roots in commu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380880" y="22860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Event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llow at least 90 days in advance to manage, plan and organize a successful even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4"/>
          <p:cNvSpPr/>
          <p:nvPr/>
        </p:nvSpPr>
        <p:spPr>
          <a:xfrm>
            <a:off x="380880" y="228600"/>
            <a:ext cx="8458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Determine location/ven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onsider your o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How many spectato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raffic 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ponsor appe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Vendor loca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ark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43:57Z</dcterms:created>
  <dc:creator>Bob</dc:creator>
  <dc:description/>
  <dc:language>en-US</dc:language>
  <cp:lastModifiedBy>Owner</cp:lastModifiedBy>
  <cp:lastPrinted>2007-12-21T06:15:07Z</cp:lastPrinted>
  <dcterms:modified xsi:type="dcterms:W3CDTF">2010-07-13T00:10:27Z</dcterms:modified>
  <cp:revision>38</cp:revision>
  <dc:subject/>
  <dc:title>Slide 1</dc:title>
</cp:coreProperties>
</file>